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6A1-3F87-4726-8C3A-6F2DB955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112-D978-4B4E-8012-71E0F555F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E51B-D6E6-43AE-AB06-FC57FC41B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93A-4E5E-479B-9D8E-F926E4F45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2AB1-C308-4056-86E6-0EAFA6C3C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C071-8695-47E8-B4E2-5B09E827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19C7-530F-41F6-9519-C1B0411FC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2201-0676-4928-AE1A-AF5FBE6B7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1000-1BFB-49A3-AA14-53889946B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A17E-85BE-491E-AD0D-2ED2EE4CE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43C8-70A7-43C5-AD3B-1A32F13C0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0CF0-1B21-45D8-B004-F5F55DAF7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2B9B-8948-418A-A50A-4889451F2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878C-3595-44F1-87D6-24A01F0D1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E8DD-2C3B-4019-B1B4-31F414B7E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1123-B6F5-46A8-8E28-54C1E38B2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2F62-FD05-4A5A-B517-939055D2B6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604D-8228-4CBC-87DD-8611F7D91BC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Atribuiri şi recunoştiinţ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5e647"/>
                </a:solidFill>
                <a:latin typeface="Verdana"/>
              </a:rPr>
              <a:t>Numiţi sursele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şi afişati semnul de copyright 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Numirea surselor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 daţi o descriere bibliografică completă cu informaţiile care sunt disponibile (incluzând autorul, titlul, tipografia, locul şi data tipărir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66ccff"/>
                </a:solidFill>
                <a:latin typeface="Verdana"/>
              </a:rPr>
              <a:t>Afişati semnul de copyright:</a:t>
            </a:r>
            <a:r>
              <a:rPr b="1" i="1" lang="ro-RO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-sub poze adăugaţi informaţii despre deţinătorul copyrightului (anul primei apariţii, numele deţinătorului dreptului de auto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Exemplu: © 2001 Company/Person’s N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2FC-91E3-41B8-B5A1-C3523832948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40608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Folosirea ulterioară dincolo de folosirea legal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există posibilitatea ca un proiect să fie răspândit (de exemplu publicat pe internet):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obţineţi permisiunea când îl creaţi, decât să asteptaţ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Exemple de scrisori pentru permisiune 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unt disponibile pe Curriculum Resource CD, Folder-ul Resource, Copyright Resour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către deţinătorii dreptului de au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scrisori pentru solicitarea permisiunii părinţilor de a publica lucrările elevilor sau a pozelor copiilor l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D6A-958C-4750-96BA-3173536970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8380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Reţineti că acestea sunt sfaturi, nu legi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Cu toate acestea, cu cât te îndepărtezi mai mult de aceste sfaturi, cu atât mai mult ai şansa să fii în afara “folosirii legale”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12B-C19A-47A8-B296-C79DF39A75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6ccff"/>
                </a:solidFill>
                <a:latin typeface="Verdana"/>
              </a:rPr>
              <a:t>Dacă nu ai permisiunea deţinătorului dreptului de autor, atunci este ilegal să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procuri o licenţă pentru un singur utilizator şi să o foloseşti pe mai multe calculatoare sau un serv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downloadezi softuri cu drept de autor de pe Inter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împrumuţi şcolii tale softul pe care l-ai procurat pentru calculatorul tău de acas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620-41A1-46CA-892E-267318BBE51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143-8FFB-41CA-8371-E187E272EB5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657C-99BE-456A-ACBB-20DC91B55B1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611-0067-4030-AFDA-28BC1C28A34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0A0C-CE22-4E3F-AC28-3B7DD70E625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BA15-1FE0-41C1-8323-16456160841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Dreptul exclusiv de a produce şi reproduce, de a reprezenta în public, sau de a publica o operă originală artistică sau literală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Aproape orice creat privat şi original, după ce este protejat, indiferent dacă are o înştiinţare sau n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9428-61D1-4324-BDD9-E01581E1D0E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Itemi care nu sunt protejaţi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ccff"/>
                </a:solidFill>
                <a:latin typeface="Verdana"/>
              </a:rPr>
              <a:t>Exemple de itemi care nu sunt protejaţi de legea copyrightulu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are nu au fost publicate sau înregist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ţie sau ilustraţ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lucrări constituite în intregime din informaţii comune (de ex: calendare standard, carte de telefoa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ţi de antreprenori pentru guvern pot fi protejaţ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096-5E6C-4D7A-86C4-79B01AE8F8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uz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799bf3"/>
                </a:solidFill>
                <a:latin typeface="Verdana"/>
              </a:rPr>
              <a:t>Folosirea legală este o parte a legii copyrightului.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ermite oamenilor să folosească şi să copieze lucrări protejate dacă sunt folosite pentru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ritic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Ştir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văţămâ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Burse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1AF6-6B12-41E1-99FF-6C0BCCA9CF9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factori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car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jut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la determinarea folosirii lega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1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Scopul şi caracterul folosirii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, inclusiv dacă folosirea este   de natură comercială î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poate fi folosit în scopuri educaţionale, nu doar intr-un   mediu ş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2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Natura lucră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legală se aplică mai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ul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lucrărilor creative în comparaţie cu cele bazate pe fapte din natur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3. 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Marimea parţii folosi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în raport cu lucrarea protej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folosirea strictului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necesar, nu şi a “miezului” lucr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4.  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fectul folosirii asupra potenţialei pieţ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copierea nu trebuie să afecteze piaţa lucrării protejat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culegeri de probl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0878-7E93-414C-BF3F-197874DEF0F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533160"/>
            <a:ext cx="823752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lvl="1" marL="2041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ul folosirii lega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entru a oferi suport în privinţa folosirii leg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04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toate acestea nu este un document legal, este doar o interpretare a legii, se aplică doar educatorilor care produc multi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2E0F-BFE2-4CF4-AED3-DF68A059F4D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studenţ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Studenţii şi educatorii au ghiduri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5e647"/>
                </a:solidFill>
                <a:latin typeface="Verdana"/>
              </a:rPr>
              <a:t>Studenţii pot: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încorpora porţiuni din lucrări protejate când îşi realizează propriile proiecte educaţionale multimedia pentru un anumit cu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prezenta  propriile proiecte la cursul pentru care au fost cre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reţine proiectele în propriile portofolii ca exemple ale muncii academice pentru scopuri personale ulterioare cum ar fi servicii sau interviuri şcol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A91-A548-4966-ACCF-8C8F9B5C827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Ghid pentru educator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ncorpora porţiuni din lucrări protejate când  realizează proiecte educaţionale multimedia care să vină în ajutorul predă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Reţine proiectele pe termen nedefinit în următoarele scopur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pentru a le prezenta colegilor săi ca exemeple la confer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le reţină în portofolii pentru uz personal cum ar fi promoţii sau  interviuri pentru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să folosească proiectele pentru predare pe o perioadă de până la 2 ani dupa prima folosire cu o clas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-   folosirea după această perioadă de timp necesită permisiunea pentru fiecare porţiune protejată încorporată</a:t>
            </a:r>
            <a:r>
              <a:rPr b="1" lang="ro-RO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D33F-D2F4-4C4C-8295-0F0C1B2F18F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ffffff"/>
                </a:solidFill>
                <a:latin typeface="Verdana"/>
              </a:rPr>
              <a:t>Sfaturi pentru rămânera în permisiunea legală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şi autor; nu mai mult de 5 poezii dintr-o singură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ă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ş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 Nu mai mult de  10% sau 15 imagini dintr-o singură publicaţ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â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7891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Verdana"/>
              </a:rPr>
              <a:t>Din lucrarea protejată, puteţi folosiţi următoarel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ARDELEAN NORIN</cp:lastModifiedBy>
  <dcterms:modified xsi:type="dcterms:W3CDTF">2010-12-03T03:48:43Z</dcterms:modified>
  <cp:revision>319</cp:revision>
  <dc:subject/>
  <dc:title>Copyright Chaos</dc:title>
</cp:coreProperties>
</file>